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360-6384-4757-9B91-8F2759BF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286-9B52-4035-A201-D72F721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439-1A1F-4EFE-BB3C-960D9657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A43-CE88-41B6-ADFF-44409203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4B6-5234-4532-994F-4F073FC3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B0C3-3711-4D11-9723-DB502D0C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70C9-1F4D-4BFB-87B1-40DE51EA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DF30-1F21-4491-8AB5-DF2F7EB3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6FE-F922-4A71-BE83-6C86B906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BE54-E6CE-4070-9582-C2949CBB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2B9F-0DF4-46A0-A5E6-CE32B64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F65-DE4B-4489-941D-B5D3A1EA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0CCA-5695-4AC8-8F73-43534F3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6CFE-12FF-441F-B18C-DC37B21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A419-45F9-4989-87D4-400E926C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DA81-C665-4B51-966C-A245265A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5DF3-217D-4165-9C73-F1D83DC8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2D46D-B232-4F77-BECC-BEE0EA05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E5CA5-F416-4D62-A4A3-98306DA6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A3567-6CF5-4AC5-8198-6E30808C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A614D-A8E4-4A83-B81B-1F6E831C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9154-1FBC-4F04-AD4C-EAD1BBA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5CE-127C-41EA-863D-7E7263CC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B3ED8-4C6A-48ED-A063-3D43D64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4E349-B690-4AEF-BF49-CC1A975E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2C00B-CFE5-42F5-82D5-770E7E6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707C1-4AA0-446A-BC5C-3598FCF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52FC2-268A-4C55-838B-3653A79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79765-CD39-4872-860B-433774EC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3E12E-07D4-4EF1-B307-74C7E4CE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FD0F-A218-4F95-BF97-15CB281B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F8604-06BA-4326-8491-019E9B15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0F23-6CCE-4BD1-9F17-287C31D7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F3A-DD3F-48EB-AAB5-AA38141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FA14-D2E6-4E85-8B97-92382804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6DE6-5917-4FF9-AC24-112818F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E043-C8FB-4ED8-9A45-56C8F364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DD23F-7804-4103-98B9-7F24C27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79A0-2BE5-4C03-9CFC-A978664A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AD11-856C-4831-A437-4AFF46F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0C0E-08E4-407F-B000-ED2D23C9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BC56-9642-4937-B0CF-4CCC7E32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E1E5-35D9-42F5-9829-F7E8AC7C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B03D4-88D1-4E37-A695-51DA932E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0EC-6EC7-4061-A20B-452BA05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17569-910D-484B-A264-DB3932A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82318-CF62-439C-B7EC-5A8AAB2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69128-BCA8-438A-A9A1-C0B67EE9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F363B-2803-46AD-BA78-DFCF6F0F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B2357-0936-4B70-A9F9-B7054311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D4304-53DC-44A3-823B-7FCA22A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2ED73-CAC0-432D-8E0C-B2894FF2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59629-3A71-456C-90B5-93673E1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9FFFB-805B-4E71-8A19-BAEAECA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EB16E-FD73-4B15-BEAF-77E72271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89F-100C-4CD2-8AA2-9214F0E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CE99F-DEC7-40E5-8B0E-5837F15B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1C20A-711B-4D8C-8DEE-C344E3B5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0279B-85FB-43BF-9E19-3F1FD568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06BCC-6FE9-40EA-8CCA-2A07A257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E9702-02E8-4AA2-8F9A-00DCD55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39343-3195-4321-B3D5-52FD5EDA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6D09D-989D-4E33-8BF9-64989E24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CAFAF-9045-4A5C-95EE-E54E3D6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41E97-DEF3-4A99-97FB-B9133CF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70407-E27A-41CB-B457-652EFF1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540-B3E3-4CD2-A560-620E94A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DCAD6-A2EC-40D3-AF1B-F97AB530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88D52-0CDB-4738-8F41-43CB83B0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44B42-1A1F-4301-BE88-6A7D96F0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1609D-C809-491D-8BAF-2F19D24D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0AF8D-15E4-465E-ABA0-36EEAF5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7FB63-331A-4DE6-B672-3A6777D8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23049-DEEB-48C2-B0A4-57498B26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3773A-24F2-49F1-8B0B-DEA8E5EB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0035F-9CF6-4011-92BF-10A1A110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1C01B-2C13-49B7-82DE-D5EDD28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583-A8F9-4408-A745-BB371D08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46C43-83BB-49AC-A086-4BEBD17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96AF3-4950-4617-B4B2-089A967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3881B-AEA3-4D0C-B2AE-0843867D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44599-C191-40F9-AF29-1B5C06CA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63BC3-2E48-4075-AD30-C423D495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D7B-0183-4294-8265-AD442D2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0403-BF66-4906-840D-86482980E0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8A95-CAFC-404C-A62D-E0E30778F3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3B8F-8353-4A2F-B3C8-A7EEF270FC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C19D-5954-4DF8-99BA-2621965E21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DB2-84BE-48D5-AF10-B580027271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8763-DF5F-487F-9F53-99E2E7C803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8092-F270-4AAF-BAB6-E26738A22D8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2000" y="1916280"/>
            <a:ext cx="755784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ЛОГИЧЕСКИЕ ФУНКЦИИ В </a:t>
            </a: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EXCEL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Нижний колонтитул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C:\Users\GRM\Desktop\паспорт.jpg"/>
          <p:cNvPicPr/>
          <p:nvPr/>
        </p:nvPicPr>
        <p:blipFill>
          <a:blip r:embed="rId1"/>
          <a:srcRect l="7090" t="2827" r="13153" b="5281"/>
          <a:stretch/>
        </p:blipFill>
        <p:spPr>
          <a:xfrm>
            <a:off x="2195640" y="404640"/>
            <a:ext cx="4176720" cy="603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684360" y="549360"/>
            <a:ext cx="754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 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Указом Президента Российской Федерации от 13 марта 1997 года № 23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аспорт гражданина РФ является основным документом, удостоверяющим личность гражданина на территории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порт обязаны иметь все граждане Российской Федерации, достигшие 14-летнего возраста и проживающие на территории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C:\Users\GRM\Desktop\photo_file_39217_l.jp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2"/>
          <p:cNvSpPr/>
          <p:nvPr/>
        </p:nvSpPr>
        <p:spPr>
          <a:xfrm>
            <a:off x="2358360" y="333360"/>
            <a:ext cx="47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468360" y="1197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писать пример задач, где в жизни используются условные функ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1722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entury Schoolbook"/>
              </a:rPr>
              <a:t>KAHOOT.IT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2" descr="C:\Users\GRM\Desktop\1537365330.png"/>
          <p:cNvPicPr/>
          <p:nvPr/>
        </p:nvPicPr>
        <p:blipFill>
          <a:blip r:embed="rId1"/>
          <a:srcRect l="0" t="0" r="0" b="33482"/>
          <a:stretch/>
        </p:blipFill>
        <p:spPr>
          <a:xfrm>
            <a:off x="0" y="210492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34920" y="2060280"/>
            <a:ext cx="61722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KAHOOT.IT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2195640" y="18900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авайте вспом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0" t="0" r="65970" b="63957"/>
          <a:stretch/>
        </p:blipFill>
        <p:spPr>
          <a:xfrm>
            <a:off x="0" y="0"/>
            <a:ext cx="89028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Заголовок 1"/>
          <p:cNvSpPr/>
          <p:nvPr/>
        </p:nvSpPr>
        <p:spPr>
          <a:xfrm>
            <a:off x="155520" y="765000"/>
            <a:ext cx="86551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спользование ЛОГИЧЕСКИХ ФУНКЦ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4"/>
          <p:cNvSpPr/>
          <p:nvPr/>
        </p:nvSpPr>
        <p:spPr>
          <a:xfrm>
            <a:off x="468360" y="2349360"/>
            <a:ext cx="7705800" cy="0"/>
          </a:xfrm>
          <a:prstGeom prst="line">
            <a:avLst/>
          </a:prstGeom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" descr="Картинки по запросу excel"/>
          <p:cNvPicPr/>
          <p:nvPr/>
        </p:nvPicPr>
        <p:blipFill>
          <a:blip r:embed="rId1"/>
          <a:stretch/>
        </p:blipFill>
        <p:spPr>
          <a:xfrm>
            <a:off x="3132000" y="314172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Картинки по запросу excel"/>
          <p:cNvPicPr/>
          <p:nvPr/>
        </p:nvPicPr>
        <p:blipFill>
          <a:blip r:embed="rId1"/>
          <a:stretch/>
        </p:blipFill>
        <p:spPr>
          <a:xfrm>
            <a:off x="120600" y="104760"/>
            <a:ext cx="1511280" cy="12589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6"/>
          <p:cNvSpPr/>
          <p:nvPr/>
        </p:nvSpPr>
        <p:spPr>
          <a:xfrm>
            <a:off x="1835280" y="0"/>
            <a:ext cx="684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бщий формат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3"/>
          <p:cNvSpPr/>
          <p:nvPr/>
        </p:nvSpPr>
        <p:spPr>
          <a:xfrm>
            <a:off x="1692360" y="1152360"/>
            <a:ext cx="6514920" cy="0"/>
          </a:xfrm>
          <a:prstGeom prst="line">
            <a:avLst/>
          </a:prstGeom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324000" y="422100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интакси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ЕСЛИ ( Лог_выражение;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ражение1;       выражение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2"/>
          <a:srcRect l="26285" t="0" r="31656" b="77101"/>
          <a:stretch/>
        </p:blipFill>
        <p:spPr>
          <a:xfrm>
            <a:off x="971640" y="1197000"/>
            <a:ext cx="70563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Заголовок 2"/>
          <p:cNvSpPr/>
          <p:nvPr/>
        </p:nvSpPr>
        <p:spPr>
          <a:xfrm>
            <a:off x="574560" y="0"/>
            <a:ext cx="8147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entury Schoolbook"/>
              </a:rPr>
              <a:t>Функция ЕС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200160" y="9302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логической функции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иллюстрируется следующей   сх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6942240" cy="492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Картинки по запросу excel"/>
          <p:cNvPicPr/>
          <p:nvPr/>
        </p:nvPicPr>
        <p:blipFill>
          <a:blip r:embed="rId2"/>
          <a:stretch/>
        </p:blipFill>
        <p:spPr>
          <a:xfrm>
            <a:off x="200160" y="57240"/>
            <a:ext cx="1057320" cy="8809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ая соединительная линия 6"/>
          <p:cNvSpPr/>
          <p:nvPr/>
        </p:nvSpPr>
        <p:spPr>
          <a:xfrm>
            <a:off x="1403280" y="836640"/>
            <a:ext cx="6516720" cy="0"/>
          </a:xfrm>
          <a:prstGeom prst="line">
            <a:avLst/>
          </a:prstGeom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"/>
          <p:cNvSpPr/>
          <p:nvPr/>
        </p:nvSpPr>
        <p:spPr>
          <a:xfrm>
            <a:off x="250920" y="170028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ЕСЛИ (D5&gt;1000;скидка 5%; нет скид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значение в ячейке D5&gt;1000, то выводится сообщение о предоставлении скидки 5%, в противном случае нет ски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95280" y="1197000"/>
            <a:ext cx="7993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гические выражения строятся с помощью 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пераций 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lt;,&gt;,&lt;=,&gt;=,&lt;&gt;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1720440" y="189000"/>
            <a:ext cx="625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Логические выра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Users\GRM\Desktop\e8db120930df342140685d3bbfe41bd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3" descr=""/>
          <p:cNvPicPr/>
          <p:nvPr/>
        </p:nvPicPr>
        <p:blipFill>
          <a:blip r:embed="rId2"/>
          <a:stretch/>
        </p:blipFill>
        <p:spPr>
          <a:xfrm>
            <a:off x="2809800" y="444600"/>
            <a:ext cx="3353040" cy="110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GRM</cp:lastModifiedBy>
  <dcterms:modified xsi:type="dcterms:W3CDTF">2021-11-07T17:57:39Z</dcterms:modified>
  <cp:revision>187</cp:revision>
  <dc:subject/>
  <dc:title>Презентация PowerPoint</dc:title>
</cp:coreProperties>
</file>